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FCD0-C78D-4D3C-8568-80DA61E40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3E18-EDC6-4B55-9E2C-0B92E189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EDB3-08C3-4DD6-B9DD-F56EE2711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1D4F-8058-4535-9D02-2F89B42B4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1D52-5209-484D-9EA2-9D0ED0177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90DBC-88F8-4AE1-84BD-186E2139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14E62-BB89-403E-9E07-0014DF79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0514-BC78-4D13-9286-FFDCFE8E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97BB-9B2C-44C9-A48B-2550C288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8934-0624-4394-A08F-3A990246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D01E4-8EBA-4846-8EB0-9D6033C3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6CC5-5CA7-4B99-862F-03C33520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04A3-9692-4D24-9B9C-F5BCFDDE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047B8-AD18-4570-8444-F27D2954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E73A-4FEA-42AF-998A-D1A99523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6DE6D-081F-4694-8C78-3D1F10EAA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F67E-3D83-417D-A0AB-EDD241B25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18AB-22DE-4EBF-B63F-C250347D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4C95-3DB5-4F4B-968D-992A3366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4E15-C39D-4B35-95E4-28AEDC2B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EDAE-BF18-40D4-B921-9FC91963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2494-3DB8-4133-A2A6-47E1608B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57A8-6A5C-4B7D-A505-C545F719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2A62-19B7-408F-B978-81FCC190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10C4-BB7E-4AFA-A15B-5A2B0E3FD9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BB71-FC2F-4687-8C22-1530C1B9FB0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332000" y="1638360"/>
          <a:ext cx="4214880" cy="48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638360"/>
                    <a:ext cx="4214880" cy="48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5640" y="342720"/>
            <a:ext cx="7488360" cy="1150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7 ГОД И ПЛАНОВЫЙ ПЕРИОД 2018-2019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2-23T00:21:30Z</dcterms:modified>
  <cp:revision>39</cp:revision>
  <dc:subject/>
  <dc:title>Структура собственных доходов на 2016 год бюджета Дальнереченского городского округа</dc:title>
</cp:coreProperties>
</file>